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type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F90E-2EF2-415E-BFF8-4363E284B0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442-AB1F-4180-8A94-C7914C41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658-3EF0-4531-99E5-1B8F4A32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3C9-1838-4141-B654-1AF115BA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3B1-38F4-41BF-BEA5-3E78355E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D00-5301-4DAF-B61C-D9B3D91B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669-4139-45C0-951E-0D566CF9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D7E-3C09-4108-AAB6-51FC1E2E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073-9296-4982-8C25-4CF338D6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EF4-2A9D-4288-8D2E-386CDEC0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148-7D2A-46BF-95ED-D606A7DC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BF7-6791-40C9-9DFC-7724673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48F-B11F-4E19-9A46-20BF458C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8181-F8E3-40FD-910D-7B7470C01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F%A8&#872;%BB&#245;%C6&#428;%B1%B3%BE%B0&#892;&#428;&amp;in=10353&amp;cl=2&amp;cm=1&amp;sc=0&amp;lm=-1&amp;pn=0&amp;rn=1&amp;di=10469366370&amp;ln=270&amp;fr=ala0&amp;ic=0&amp;s=0&amp;se=1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窟 窿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劝 告  叼 走  羊 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549360"/>
            <a:ext cx="302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47628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kūlong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quàn   di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o     j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924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街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349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92720" y="1197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51960" y="2276640"/>
            <a:ext cx="14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f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10160" y="28591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寓言  亡羊补牢  后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读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由此可见：像养羊人这样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犯了错误，只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就不算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27664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及时改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95840" y="40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亡羊补牢，未为迟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64000" y="267336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实际生活中，也常常发生类似的事，你能举例说说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1417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亡羊补牢，未为迟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14040" y="2565360"/>
            <a:ext cx="33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61200"/>
                </a:solidFill>
                <a:latin typeface="Arial"/>
              </a:rPr>
              <a:t>寓  窟   窿  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44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羊人第一次丢了羊，街坊好心（      ），他却（            ），到第二次又丢了羊，他（　        　），赶快（　　       ）。从此，他的羊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则寓言告诉我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一个人做错了事，只要肯接受意见，认真改正，就不算晚   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1989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劝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2349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满不在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后悔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3429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再也没丢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8280" y="263700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修补羊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6400800"/>
            <a:ext cx="248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0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3080" y="1989000"/>
            <a:ext cx="578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窟    窿    叼    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144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5084640"/>
            <a:ext cx="1333440" cy="110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32720" y="1268280"/>
            <a:ext cx="26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读边想养羊人丢了一只羊，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会丢第二只羊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4560" y="3933720"/>
            <a:ext cx="25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羊圈破了个窟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4040" y="4941720"/>
            <a:ext cx="23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听街坊劝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原来羊圈破了个窟窿，夜里狼从窟窿钻进去，把那只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15772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70640" y="155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窟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448560"/>
            <a:ext cx="81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5724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赶快把羊圈修一修，堵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那个窟窿吧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说：“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羊圈干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33440" cy="110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5229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天早上，他去放羊，发现羊</a:t>
            </a: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少了一只。原来狼</a:t>
            </a:r>
            <a:r>
              <a:rPr b="1" lang="zh-CN" sz="4000" spc="-1" strike="noStrike">
                <a:solidFill>
                  <a:srgbClr val="f61200"/>
                </a:solidFill>
                <a:latin typeface="Arial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窟窿钻进去，把羊叼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00000" y="5157720"/>
            <a:ext cx="784872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很后悔，不该不接受街坊的劝告，心想，现在修还不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32640" y="544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55306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200" spc="-1" strike="noStrike">
                <a:solidFill>
                  <a:srgbClr val="f61200"/>
                </a:solidFill>
                <a:latin typeface="Arial"/>
              </a:rPr>
              <a:t>赶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堵上那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窟窿，把羊圈修得结结实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61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从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的羊</a:t>
            </a:r>
            <a:r>
              <a:rPr b="1" lang="zh-CN" sz="4800" spc="-1" strike="noStrike">
                <a:solidFill>
                  <a:srgbClr val="f61200"/>
                </a:solidFill>
                <a:latin typeface="Arial"/>
              </a:rPr>
              <a:t>再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没丢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6:00:29Z</dcterms:created>
  <dc:creator>Administrators</dc:creator>
  <dc:description/>
  <dc:language>en-US</dc:language>
  <cp:lastModifiedBy>User</cp:lastModifiedBy>
  <dcterms:modified xsi:type="dcterms:W3CDTF">2014-12-04T14:29:01Z</dcterms:modified>
  <cp:revision>25</cp:revision>
  <dc:subject/>
  <dc:title>幻灯片 1</dc:title>
</cp:coreProperties>
</file>